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F6EC-88ED-408F-8929-85FAC80F4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E708-99C1-4A15-B349-1C57A7ED2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DBAB-EBF8-4F65-9EED-E6ED379D2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D206-9EDA-4089-94CB-1F402EA5A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8AB3-940F-4D39-8D30-6975BAB62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CE72-3596-497E-A4CC-06C686D62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95F4-B09E-47CB-96D2-FB0BC461C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91B8-A6AD-4E86-B7A4-E2163355B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5C53-2FE0-4A31-88DE-CB9A39458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BA2E-2F58-4B1C-BC69-A6FBA7A60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27CA-7631-4B29-8340-9586A6148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5FF49-FDEF-41C4-A024-2A2714A5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A6A39-D69F-4BB6-93E1-E98B3A721A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 to Chemical Bo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dium - chlorine experi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467560" y="4470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Write the electron configuration and oribital diagram for Sodium and Chlorine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4076640" cy="36702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648320" y="1981080"/>
            <a:ext cx="38732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hr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838080" y="2514600"/>
            <a:ext cx="3353040" cy="20750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29200" y="2438280"/>
            <a:ext cx="274320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What would happen if Lithium and Bromine combine?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16:08:30Z</dcterms:created>
  <dc:creator>Dan Salazar</dc:creator>
  <dc:description/>
  <dc:language>en-US</dc:language>
  <cp:lastModifiedBy>Dan Salazar</cp:lastModifiedBy>
  <dcterms:modified xsi:type="dcterms:W3CDTF">2011-12-16T16:51:04Z</dcterms:modified>
  <cp:revision>3</cp:revision>
  <dc:subject/>
  <dc:title>Introduction to Chemical Bonds</dc:title>
</cp:coreProperties>
</file>